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C582-C2D1-4DC2-892B-3A6862E0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7FF2-E6DB-4599-BE8E-F4F638E1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4997-3756-4376-8A42-72E06CE8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07D7-65BC-4BAF-8474-D2418998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D589-2404-497E-A59D-457E4DD1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B966-795F-4E00-AED1-0C88CE90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4C18-D0E3-4BB7-A3CE-CB1C6FB4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0DF1-0CDC-40C3-832E-CBA0D7DA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1666-FC9A-46C5-8ECD-772A4F11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CC12-1FB1-4BCE-898A-BD42E293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5E3E-7696-4151-BCD5-823C9DDA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C59F-F65C-46BF-B17D-CADC10EB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42A5-5BCE-46F2-9C0F-CA55DD0B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23F4-7F14-4FC6-9D31-77ACA81D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841F-AEA1-4A8E-99F7-375A7BD8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B171-7D7D-4E4E-BDE1-6B5DE89B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8482-FC59-4075-92FF-E64F207D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C37E-DF06-4FD0-9369-03C7B371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5B32-7DD2-4A96-A110-A42641E7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84E2-5661-487E-BFE9-AA9C30EA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9C08-0E6C-493F-B824-DBC9F546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1BD3-F431-4699-B6DF-F9A1B53F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14D1-7A4F-4DF9-A13E-7D36A647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FB03-695B-4510-9614-79D5BF9F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92BF-A4F3-4214-9D8B-C68A526706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06C5-0D47-4BAF-A4ED-1016B35EB2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et The Truth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e Tol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eran of 10 albums at the age of 26 and an acclaimed member of Houston's Screwed Up Click, Z-Ro is much more complex than his surface or the simple intro of THE LIFE OF JOSEPH W. MCV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4648320" y="139068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2527c"/>
                                      </p:to>
                                    </p:animClr>
                                    <p:animClr clrSpc="rgb">
                                      <p:cBhvr>
                                        <p:cTn id="23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2527c"/>
                                      </p:to>
                                    </p:animClr>
                                    <p:set>
                                      <p:cBhvr>
                                        <p:cTn id="24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y Favorite Rapp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what u did to me was zro’s first albu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ro is my favorite artist because everything he says I can relate to h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495680" y="2225520"/>
            <a:ext cx="41148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5000" fill="hold"/>
                                        <p:tgtEl>
                                          <p:spTgt spid="5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3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3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oseph Mc ve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eleased a number of other albums during the same early-2000s stretch, having begun a couple years earlier with Look What You Did to Me (1998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4648320" y="18478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96" dur="5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0" dur="5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crewed Up Click Represent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-Ro has embraced his inclusion in the Screwed Up Click, a loose collective of Houston rappers associated with the famous DJ Screw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4648320" y="18478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" dur="5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spired b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onically, it was while he was hustling that he discovered rap music. According to Z-RO listening to the music of Tupac, The Geto Boys, Street Military, K-Reno and Klondike Kat inspired him to hustle harder so he could one day get himself out of the trap for go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4648320" y="18478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 0.12119 L 0.125 0.12119 L 0.048 0.19577 L 0.077 0.31697 L 0 0.24239 L -0.077 0.31697 L -0.048 0.19577 L -0.125 0.12119 L -0.029 0.12119 L 0 0 Z">
                                      <p:cBhvr>
                                        <p:cTn id="176" dur="5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80" dur="5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85" dur="2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ig Brea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going through a couple of studios recording demo after demo he finally caught a big break when he was hanging out in a studio and the CEO of a local rap label heard him free styling and signed him. In 1996 Z-RO Dropped his underground debut entitled "Look What You Done to Me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3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28" dur="123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29" dur="123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3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1" dur="123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4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34:14Z</dcterms:created>
  <dc:creator>759670</dc:creator>
  <dc:description/>
  <dc:language>en-US</dc:language>
  <cp:lastModifiedBy>759670</cp:lastModifiedBy>
  <dcterms:modified xsi:type="dcterms:W3CDTF">2008-12-15T16:49:31Z</dcterms:modified>
  <cp:revision>3</cp:revision>
  <dc:subject/>
  <dc:title>Let The Truth  Be Tol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